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5EAE1-EB65-4B27-829B-1CEC36A66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278CC-3956-47A2-B34F-70F445CBA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9E71E-FF09-4E7C-AB9D-2CE89EF36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E0D91-46CF-42D4-8612-2DCEF2B0D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85A447A-33F3-48ED-B8B8-4BEFBCFE94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889F3CE-B2C4-432A-9BC3-6B90225F7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DF7937A-31DF-4580-9FD1-7AF0D6B51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635E92D-A4BB-43ED-8799-366B7B58A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C2BE3E3-73F3-49FA-8552-12CF0209F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3C5592E-5A85-4F2D-B0CF-6FDE37CC5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A8EA214-38F7-483E-B31E-6982EE972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29FB7-DBEA-43D4-8B67-D842BF588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949BB33-F4C3-4B41-BCFC-140271388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735F4D-92A4-4532-9872-50099B171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6D5A866-57AF-499E-A20F-172421F51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A3191AB-4089-4BAD-B16C-3AAF34F35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5723863-7463-4FBF-A1A9-A085DE127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74B90-4334-42DA-A907-C330EDD52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4C0B1-BDFA-4D5A-8761-C55017F6E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1F83B-C142-49D0-8B61-AAEDD5F37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A3109-55C3-4A34-B8C7-1F5107814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7154F-41C1-408D-9AEC-D1AA7CC93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49061-E315-4FAD-A7B0-E1BCFA71B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49477-B32B-4C65-9C2F-AC5A1D7D3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CA223-50EB-46AA-9A23-F0394E7430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139C-3887-473B-BDEE-BF52971340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3e3ff"/>
                </a:solidFill>
                <a:latin typeface="Arial"/>
              </a:rPr>
              <a:t>MANUSIA MAHKLUK TRANSENDEN</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SIAPAKAH AKU?</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dak Ditentukan oleh Kodrat</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usia menjadi manusia sebagaimana adanya ditentukan oleh beberapa faktor: alam lingkungan, lingkungan masyarakat, pola pengasuhan dan pendidikan, pengalaman hidup dan keputusan pribadi.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aktor alam</a:t>
            </a:r>
            <a:r>
              <a:rPr b="0" lang="en-US" sz="3200" spc="-1" strike="noStrike">
                <a:solidFill>
                  <a:srgbClr val="ffffff"/>
                </a:solidFill>
                <a:latin typeface="Arial"/>
              </a:rPr>
              <a:t> </a:t>
            </a:r>
            <a:r>
              <a:rPr b="0" i="1" lang="en-US" sz="3200" spc="-1" strike="noStrike">
                <a:solidFill>
                  <a:srgbClr val="ffffff"/>
                </a:solidFill>
                <a:latin typeface="Arial"/>
              </a:rPr>
              <a:t>lingkungan</a:t>
            </a:r>
            <a:r>
              <a:rPr b="1" i="1" lang="en-US" sz="3200" spc="-1" strike="noStrike">
                <a:solidFill>
                  <a:srgbClr val="ffffff"/>
                </a:solidFill>
                <a:latin typeface="Arial"/>
              </a:rPr>
              <a:t>;</a:t>
            </a:r>
            <a:r>
              <a:rPr b="0" lang="en-US" sz="3200" spc="-1" strike="noStrike">
                <a:solidFill>
                  <a:srgbClr val="ffffff"/>
                </a:solidFill>
                <a:latin typeface="Arial"/>
              </a:rPr>
              <a:t> mempengaruhi kondisi fisik manusia. Warna kulit, misalny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Tidak Ditentukan oleh Kodrat</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aktor lingkungan masyarakat</a:t>
            </a:r>
            <a:r>
              <a:rPr b="0" lang="en-US" sz="2800" spc="-1" strike="noStrike">
                <a:solidFill>
                  <a:srgbClr val="ffffff"/>
                </a:solidFill>
                <a:latin typeface="Arial"/>
              </a:rPr>
              <a:t>; mempengaruhi pandangan dan nilai-nilai hidup, cara berpikir, berkehendak, berperasaan, dan berperilaku.</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aktor pola pengasuhan dalam keluarga dan pendidikan; </a:t>
            </a:r>
            <a:r>
              <a:rPr b="0" lang="en-US" sz="2800" spc="-1" strike="noStrike">
                <a:solidFill>
                  <a:srgbClr val="ffffff"/>
                </a:solidFill>
                <a:latin typeface="Arial"/>
              </a:rPr>
              <a:t>yang dirancang secara sadar membuat manusia menjadi manusia seperti yang diharapkan. Orang yang diasuh di dalam keluarga raja misalnya, akan berbeda tampilannya dari orang yang tumbuh dan berkembang di jalan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Tidak Ditentukan oleh Kodrat</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aktor pengalaman hidup dan keputusan pribadi;</a:t>
            </a:r>
            <a:r>
              <a:rPr b="0" lang="en-US" sz="3200" spc="-1" strike="noStrike">
                <a:solidFill>
                  <a:srgbClr val="ffffff"/>
                </a:solidFill>
                <a:latin typeface="Arial"/>
              </a:rPr>
              <a:t> manusia memiliki kemampuan istimewa untuk menanggapi dan mengolah pengaruh-2 yang datang dari luar dirinya dan menggunakannya sesuai dengan tujuan dan cita-cita hidupnya. Oleh karena itu, meski secara lahiriah manusia tampak sama, namun tidak ada satu pun manusia yang persis sama (setiap orang itu unik).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Tidak Dipengaruhi oleh Kodrat</a:t>
            </a:r>
            <a:endParaRPr b="0" lang="en-US" sz="40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Kesimpulan</a:t>
            </a:r>
            <a:r>
              <a:rPr b="0" lang="en-US" sz="3200" spc="-1" strike="noStrike">
                <a:solidFill>
                  <a:srgbClr val="ffffff"/>
                </a:solidFill>
                <a:latin typeface="Arial"/>
              </a:rPr>
              <a:t>:  manusia menjadi manusia bukan karena kodrat, tetapi karena dipengaruhi alam dan masyarakatnya, pola pengasuhan dan pendidikan yang telah dijalaninya, oleh kemauan dan keputusan yang dibuatnya sendir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Tidak Diatur oleh Insting</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sting; </a:t>
            </a:r>
            <a:r>
              <a:rPr b="0" lang="en-US" sz="2800" spc="-1" strike="noStrike">
                <a:solidFill>
                  <a:srgbClr val="ffffff"/>
                </a:solidFill>
                <a:latin typeface="Arial"/>
              </a:rPr>
              <a:t>dorongan untuk secara tidak sadar bertindak dengan cepat dan tepat pada waktu menghadapi rangsangan, tantangan atau ancaman terhadap diriny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hluk-2 lain memiliki cara bertindak seragam;  manusia, meski tidak terhindar dari pengaruh lingkungan dan masyarakat, sebagian besar cara bersikap dan bertindak ditentukan oleh keputusan pribadi atas dasar pertimbangan kepantasan serta keefektifanny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Tidak Diatur oleh Insting</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hluk-2 lain memiliki musim untuk melakukan kegiatan-2 tertentu, misalnya kawin atau berpindah tempat. Manusia tidak hidup berdasarkan musim, tapi berdasarkan </a:t>
            </a:r>
            <a:r>
              <a:rPr b="0" i="1" lang="en-US" sz="2800" spc="-1" strike="noStrike">
                <a:solidFill>
                  <a:srgbClr val="ffffff"/>
                </a:solidFill>
                <a:latin typeface="Arial"/>
              </a:rPr>
              <a:t>kepentingan</a:t>
            </a:r>
            <a:r>
              <a:rPr b="0" lang="en-US" sz="2800" spc="-1" strike="noStrike">
                <a:solidFill>
                  <a:srgbClr val="ffffff"/>
                </a:solidFill>
                <a:latin typeface="Arial"/>
              </a:rPr>
              <a:t> dan </a:t>
            </a:r>
            <a:r>
              <a:rPr b="0" i="1" lang="en-US" sz="2800" spc="-1" strike="noStrike">
                <a:solidFill>
                  <a:srgbClr val="ffffff"/>
                </a:solidFill>
                <a:latin typeface="Arial"/>
              </a:rPr>
              <a:t>pertimbangan</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hluk-2 lain memiliki kecakapan bawaan, seperti menggali lubang atau membuat sarang. Untuk bisa cakap dalam sesuatu hal, manusia harus belajar, meniru, berlatih, dan mempraktekan sendiri.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Kemampuan Mengembangkan Daya Fisik</a:t>
            </a:r>
            <a:endParaRPr b="0" lang="en-US" sz="40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mua makhluk hidup memiliki kemampuan untuk menjaga, melindungi, dan mempertahankan diri. Untuk itu, makhluk-2 hidup memiliki senjata alamiah.</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usia tidak memiliki sejata alamiah apapun; namun, </a:t>
            </a:r>
            <a:r>
              <a:rPr b="0" i="1" lang="en-US" sz="3200" spc="-1" strike="noStrike">
                <a:solidFill>
                  <a:srgbClr val="ffffff"/>
                </a:solidFill>
                <a:latin typeface="Arial"/>
              </a:rPr>
              <a:t>memiliki kecakapan untuk mengembangkan kemampuan</a:t>
            </a:r>
            <a:r>
              <a:rPr b="0" lang="en-US" sz="3200" spc="-1" strike="noStrike">
                <a:solidFill>
                  <a:srgbClr val="ffffff"/>
                </a:solidFill>
                <a:latin typeface="Arial"/>
              </a:rPr>
              <a:t> mempertahankan diri terhadap makhluk lain, manusia lain, atau tantangan ala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Kemampuan Mengembangkan Daya Fisik</a:t>
            </a:r>
            <a:endParaRPr b="0" lang="en-US" sz="40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usia menggunakan akal untuk menghindar atau menjahui bahaya, atau memakai alat pelindung, dan melatih kecakapan bela diri, Efisiensi dan efektifitas hidup manusia didukung oleh pancaindra, kaki dan tangannya. Manusia dapat mengembangkan daya-daya indranya sehingga dapat mengalahkan kemampuan indra makhluk-2 lai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Keunggulan Manusia Secara Rohani</a:t>
            </a:r>
            <a:endParaRPr b="0" lang="en-US" sz="4000" spc="-1" strike="noStrike">
              <a:solidFill>
                <a:srgbClr val="e3e3ff"/>
              </a:solidFill>
              <a:latin typeface="Arial"/>
            </a:endParaRPr>
          </a:p>
        </p:txBody>
      </p:sp>
      <p:sp>
        <p:nvSpPr>
          <p:cNvPr id="157" name="PlaceHolder 2"/>
          <p:cNvSpPr>
            <a:spLocks noGrp="1"/>
          </p:cNvSpPr>
          <p:nvPr>
            <p:ph/>
          </p:nvPr>
        </p:nvSpPr>
        <p:spPr>
          <a:xfrm>
            <a:off x="468360" y="2362320"/>
            <a:ext cx="8229600" cy="4495680"/>
          </a:xfrm>
          <a:prstGeom prst="rect">
            <a:avLst/>
          </a:prstGeom>
          <a:noFill/>
          <a:ln w="0">
            <a:noFill/>
          </a:ln>
        </p:spPr>
        <p:txBody>
          <a:bodyPr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Kemampuan Berabstraksi</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Kesadaran Diri</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Kebebasan</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ati Nurani</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ifat Transend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Keunggulan Manusia Secara Rohani</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kan hanya terletak pada keunggulan fisiknya saja, melainkan juga pada segi </a:t>
            </a:r>
            <a:r>
              <a:rPr b="0" i="1" lang="en-US" sz="3200" spc="-1" strike="noStrike">
                <a:solidFill>
                  <a:srgbClr val="ffffff"/>
                </a:solidFill>
                <a:latin typeface="Arial"/>
              </a:rPr>
              <a:t>spiritualnya</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aya spiritual</a:t>
            </a:r>
            <a:r>
              <a:rPr b="0" lang="en-US" sz="3200" spc="-1" strike="noStrike">
                <a:solidFill>
                  <a:srgbClr val="ffffff"/>
                </a:solidFill>
                <a:latin typeface="Arial"/>
              </a:rPr>
              <a:t> manusia nampak pada </a:t>
            </a:r>
            <a:r>
              <a:rPr b="0" i="1" lang="en-US" sz="3200" spc="-1" strike="noStrike">
                <a:solidFill>
                  <a:srgbClr val="ffffff"/>
                </a:solidFill>
                <a:latin typeface="Arial"/>
              </a:rPr>
              <a:t>kemampuan berabstraksi, kesadaran diri, kebebasan, hati nurani dan sifat transendennya</a:t>
            </a:r>
            <a:r>
              <a:rPr b="0" lang="en-US" sz="3200" spc="-1" strike="noStrike">
                <a:solidFill>
                  <a:srgbClr val="ffffff"/>
                </a:solidFill>
                <a:latin typeface="Arial"/>
              </a:rPr>
              <a:t>; yaitu keterbukaan terhadap hal-hal yang mengatasi diri dan berada di luar diriny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MANUSIA MAKHLUK TRANSENDEN</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ukum Fisik dan Fisiologis</a:t>
            </a:r>
            <a:endParaRPr b="0" lang="en-US" sz="3600" spc="-1" strike="noStrike">
              <a:solidFill>
                <a:srgbClr val="ffffff"/>
              </a:solidFill>
              <a:latin typeface="Arial"/>
            </a:endParaRPr>
          </a:p>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unggulan Secara Fisik dan Fisiologis</a:t>
            </a:r>
            <a:endParaRPr b="0" lang="en-US" sz="3600" spc="-1" strike="noStrike">
              <a:solidFill>
                <a:srgbClr val="ffffff"/>
              </a:solidFill>
              <a:latin typeface="Arial"/>
            </a:endParaRPr>
          </a:p>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unggulan Secara Rohani</a:t>
            </a:r>
            <a:endParaRPr b="0" lang="en-US" sz="3600" spc="-1" strike="noStrike">
              <a:solidFill>
                <a:srgbClr val="ffffff"/>
              </a:solidFill>
              <a:latin typeface="Arial"/>
            </a:endParaRPr>
          </a:p>
          <a:p>
            <a:pPr marL="343080" indent="-3430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simpul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mampuan Berabstraksi</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bastraksi</a:t>
            </a:r>
            <a:r>
              <a:rPr b="0" lang="en-US" sz="3200" spc="-1" strike="noStrike">
                <a:solidFill>
                  <a:srgbClr val="ffffff"/>
                </a:solidFill>
                <a:latin typeface="Arial"/>
              </a:rPr>
              <a:t> (Latin: </a:t>
            </a:r>
            <a:r>
              <a:rPr b="0" i="1" lang="en-US" sz="3200" spc="-1" strike="noStrike">
                <a:solidFill>
                  <a:srgbClr val="ffffff"/>
                </a:solidFill>
                <a:latin typeface="Arial"/>
              </a:rPr>
              <a:t>abstrahere</a:t>
            </a:r>
            <a:r>
              <a:rPr b="0" lang="en-US" sz="3200" spc="-1" strike="noStrike">
                <a:solidFill>
                  <a:srgbClr val="ffffff"/>
                </a:solidFill>
                <a:latin typeface="Arial"/>
              </a:rPr>
              <a:t>, Inggris: </a:t>
            </a:r>
            <a:r>
              <a:rPr b="0" i="1" lang="en-US" sz="3200" spc="-1" strike="noStrike">
                <a:solidFill>
                  <a:srgbClr val="ffffff"/>
                </a:solidFill>
                <a:latin typeface="Arial"/>
              </a:rPr>
              <a:t>abstraction</a:t>
            </a:r>
            <a:r>
              <a:rPr b="0" lang="en-US" sz="3200" spc="-1" strike="noStrike">
                <a:solidFill>
                  <a:srgbClr val="ffffff"/>
                </a:solidFill>
                <a:latin typeface="Arial"/>
              </a:rPr>
              <a:t>) = menarik, melepaskan, menjauhkan, memisahka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mampuan untuk memisahkan dan menangkap salah satu segi atau unsur dari objek sehingga terlepas dari objek konkritnya. Ada 3 tingkatan abstraksi.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mampuan Berabstraksi</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bstraksi tingkat pertama; </a:t>
            </a:r>
            <a:r>
              <a:rPr b="0" lang="en-US" sz="3200" spc="-1" strike="noStrike">
                <a:solidFill>
                  <a:srgbClr val="ffffff"/>
                </a:solidFill>
                <a:latin typeface="Arial"/>
              </a:rPr>
              <a:t>terjadi jika manusia mampu memisahkan segi-segi objek yang dapat diamati dengan pancaindera dari keseluruhan objek tersebut. Misalnya, keadaan lahiriah atau fisiknya, unsur-2 intern yang mampu menggerakkannya, syarat-2 fisik agar tetap hidup, dst. Dari abstraksi tingkat pertama ini kita dapatkan ilmu fisika dan biologi.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mampuan Berabstraksi</a:t>
            </a: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bstraksi tingkat kedua;</a:t>
            </a:r>
            <a:r>
              <a:rPr b="0" lang="en-US" sz="3200" spc="-1" strike="noStrike">
                <a:solidFill>
                  <a:srgbClr val="ffffff"/>
                </a:solidFill>
                <a:latin typeface="Arial"/>
              </a:rPr>
              <a:t> mengambil segi yang dapat dihitung dan diukur dari obyeknya. Misalnya, jumlah (banyak-sedikit), kebesarannya (besar-kecil), ukurannya (panjang-pendek), timbangannya (berat-ringan), dst. Dari abstraksi tingkat kedua ini kita mendapatkan ilmu matematik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mampuan Berabstraksi</a:t>
            </a:r>
            <a:endParaRPr b="0" lang="en-US" sz="44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bstraksi tingkat ketiga;</a:t>
            </a:r>
            <a:r>
              <a:rPr b="0" lang="en-US" sz="3200" spc="-1" strike="noStrike">
                <a:solidFill>
                  <a:srgbClr val="ffffff"/>
                </a:solidFill>
                <a:latin typeface="Arial"/>
              </a:rPr>
              <a:t> mengambil unsur keberadaanya dari keseluruhan objek. Misalnya, apa artinya objek itu ada, dari mana adanya, mengapa ada, apa yang menyebabkan ada, bagaimana cara berada, untuk apa berada, dst. Dari kemampuan berabstraksi tingkat ketiga ini menghasilkan ilmu filsaf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mampuan Berabstraksi</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usia mampu menangkap dan menahan dalam budi, konsep, sifat-2, ciri-2, umum suatu objek, tanpa terikat pada objek yang ada secara konkret sebagaimana apa adanya di tempat tertentu dan pada waktu tertentu; dan menerapkannya pada objek yang sama pada kesempatan lai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mampuan Berabstraksi</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kat </a:t>
            </a:r>
            <a:r>
              <a:rPr b="1" lang="en-US" sz="2800" spc="-1" strike="noStrike">
                <a:solidFill>
                  <a:srgbClr val="ffffff"/>
                </a:solidFill>
                <a:latin typeface="Arial"/>
              </a:rPr>
              <a:t>kemampuan berabstraksi</a:t>
            </a:r>
            <a:r>
              <a:rPr b="0" lang="en-US" sz="2800" spc="-1" strike="noStrike">
                <a:solidFill>
                  <a:srgbClr val="ffffff"/>
                </a:solidFill>
                <a:latin typeface="Arial"/>
              </a:rPr>
              <a:t>, manusia </a:t>
            </a:r>
            <a:r>
              <a:rPr b="0" i="1" lang="en-US" sz="2800" spc="-1" strike="noStrike">
                <a:solidFill>
                  <a:srgbClr val="ffffff"/>
                </a:solidFill>
                <a:latin typeface="Arial"/>
              </a:rPr>
              <a:t>dapat berbahasa</a:t>
            </a:r>
            <a:r>
              <a:rPr b="0" lang="en-US" sz="2800" spc="-1" strike="noStrike">
                <a:solidFill>
                  <a:srgbClr val="ffffff"/>
                </a:solidFill>
                <a:latin typeface="Arial"/>
              </a:rPr>
              <a:t> dan </a:t>
            </a:r>
            <a:r>
              <a:rPr b="0" i="1" lang="en-US" sz="2800" spc="-1" strike="noStrike">
                <a:solidFill>
                  <a:srgbClr val="ffffff"/>
                </a:solidFill>
                <a:latin typeface="Arial"/>
              </a:rPr>
              <a:t>menggunakan lambang.</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hasa</a:t>
            </a:r>
            <a:r>
              <a:rPr b="0" lang="en-US" sz="2800" spc="-1" strike="noStrike">
                <a:solidFill>
                  <a:srgbClr val="ffffff"/>
                </a:solidFill>
                <a:latin typeface="Arial"/>
              </a:rPr>
              <a:t> adalah rangkaian bunyi (bahasa lisan) dan rangkaian huruf (bahasa tertulis) yang menyatakan arti, makna dari objeknya.Manusia mampu berbahasa karena mampu memisahkan rangkaian bunyi atau huruf dari arti, makna objeknya, dan mengungkapkan rangkaian bunyi atau huruf terlepas dari arti, makna objeknya. Karena mampu berbahasa, mamusia mampu berkomunikasi satu sama lai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Kemampuan Berabstraksi</a:t>
            </a:r>
            <a:endParaRPr b="0" lang="en-US" sz="44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enggunakan lambang</a:t>
            </a:r>
            <a:r>
              <a:rPr b="0" lang="en-US" sz="2800" spc="-1" strike="noStrike">
                <a:solidFill>
                  <a:srgbClr val="ffffff"/>
                </a:solidFill>
                <a:latin typeface="Arial"/>
              </a:rPr>
              <a:t>; lambang adalah objek yang digunakan untuk m,enunjukkan suatu arti atau makna. Namun, lambang dan hal yang dilambangkan itu terpisah dan hanya dapat dimengerti jika hubungan antara lambang dan hal yang dilambangkan ditangkap. Manusia dapat memahami arti dan makna lambang karena mampu berabstraksi dengan memisahkan dan menghubungkan lambang dengan hal yang dilambangka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sadaran Diri</a:t>
            </a:r>
            <a:endParaRPr b="0" lang="en-US" sz="44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adar</a:t>
            </a:r>
            <a:r>
              <a:rPr b="0" lang="en-US" sz="2800" spc="-1" strike="noStrike">
                <a:solidFill>
                  <a:srgbClr val="ffffff"/>
                </a:solidFill>
                <a:latin typeface="Arial"/>
              </a:rPr>
              <a:t> berarti mengenal sesuatu yang sebelumnya belum dikenal; berkat kesadarannya, manusia mengenal objek yang disadari dan diri sendiri sebagai subjek yang menyadarinya. Pada diri manusia, kesadaran itu tidak terbatas pada objek-2 yang ada di luar dirinya, tapi juga yang ada pada dirinya sendiri. Ketika manusia sedang berpikir, berkehendak, beperasaan, atau melakukan sesuatu, ia mengenal bahwa dirinya sedang berperilaku demikia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sadaran Diri</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lalui kesadarannya, manusia mampu mengenal diri beserta perilakunya terpisah dari konkretnya. Ia dapat menciptakan jarak antara dirinya dengan dirinya yang sedang berperilaku tertentu. Dengan kesadarannya, manusia dapat membuat abstraksi tentang dirinya yang sedang berperilaku tertentu dari konkretny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sadaran Diri</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gan kemampuan kesadaran diri, manusia mampu merenungkan diri dan meninjau kembali perilakunya guna membuat perubahan dan perbaikan atas perilakunya. Oleh karena itu, manusia mampu membuat kemajuan-2 dalam berpikir, berperasaan, berkehendak, dan berperilaku. Berkat rangkaian aksi dan refleksi, manusia mampu mencapai kemajuan di berbagai bidang dalam hidupny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475920"/>
            <a:ext cx="829152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ukum Fisik dan Fisiologis</a:t>
            </a:r>
            <a:endParaRPr b="0" lang="en-US" sz="4400" spc="-1" strike="noStrike">
              <a:solidFill>
                <a:srgbClr val="e3e3ff"/>
              </a:solidFill>
              <a:latin typeface="Arial"/>
            </a:endParaRPr>
          </a:p>
        </p:txBody>
      </p:sp>
      <p:sp>
        <p:nvSpPr>
          <p:cNvPr id="127" name="PlaceHolder 2"/>
          <p:cNvSpPr>
            <a:spLocks noGrp="1"/>
          </p:cNvSpPr>
          <p:nvPr>
            <p:ph/>
          </p:nvPr>
        </p:nvSpPr>
        <p:spPr>
          <a:xfrm>
            <a:off x="611280" y="2781360"/>
            <a:ext cx="8229600" cy="4495680"/>
          </a:xfrm>
          <a:prstGeom prst="rect">
            <a:avLst/>
          </a:prstGeom>
          <a:noFill/>
          <a:ln w="0">
            <a:noFill/>
          </a:ln>
        </p:spPr>
        <p:txBody>
          <a:bodyPr anchor="t">
            <a:normAutofit/>
          </a:bodyPr>
          <a:p>
            <a:pPr marL="343080" indent="-343080" algn="ctr">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ukum Fisik</a:t>
            </a:r>
            <a:endParaRPr b="0" lang="en-US" sz="4000" spc="-1" strike="noStrike">
              <a:solidFill>
                <a:srgbClr val="ffffff"/>
              </a:solidFill>
              <a:latin typeface="Arial"/>
            </a:endParaRPr>
          </a:p>
          <a:p>
            <a:pPr marL="343080" indent="-343080" algn="ctr">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ukum Fisiologi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bebasan</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ya spiritual manusia juga tampak pada </a:t>
            </a:r>
            <a:r>
              <a:rPr b="1" i="1" lang="en-US" sz="2800" spc="-1" strike="noStrike">
                <a:solidFill>
                  <a:srgbClr val="ffffff"/>
                </a:solidFill>
                <a:latin typeface="Arial"/>
              </a:rPr>
              <a:t>kebebasannya</a:t>
            </a:r>
            <a:r>
              <a:rPr b="0" lang="en-US" sz="2800" spc="-1" strike="noStrike">
                <a:solidFill>
                  <a:srgbClr val="ffffff"/>
                </a:solidFill>
                <a:latin typeface="Arial"/>
              </a:rPr>
              <a:t>; manusia adalah makhluk yang memiliki kebabasan; sudah </a:t>
            </a:r>
            <a:r>
              <a:rPr b="1" i="1" lang="en-US" sz="2800" spc="-1" strike="noStrike">
                <a:solidFill>
                  <a:srgbClr val="ffffff"/>
                </a:solidFill>
                <a:latin typeface="Arial"/>
              </a:rPr>
              <a:t>menjadi makhluk bebas karena tidak terkekang oleh kodrat dan isntingnya.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un, </a:t>
            </a:r>
            <a:r>
              <a:rPr b="1" i="1" lang="en-US" sz="2800" spc="-1" strike="noStrike">
                <a:solidFill>
                  <a:srgbClr val="ffffff"/>
                </a:solidFill>
                <a:latin typeface="Arial"/>
              </a:rPr>
              <a:t>kebebasan manusia pada dasarnya terletak pada kemampuan untuk memilih dan kemampuan untuk menjatuhkan pilihan atas hidup serta perilakunya.</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bebasan</a:t>
            </a:r>
            <a:endParaRPr b="0" lang="en-US" sz="44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bebasan</a:t>
            </a:r>
            <a:r>
              <a:rPr b="0" lang="en-US" sz="2800" spc="-1" strike="noStrike">
                <a:solidFill>
                  <a:srgbClr val="ffffff"/>
                </a:solidFill>
                <a:latin typeface="Arial"/>
              </a:rPr>
              <a:t> manusia </a:t>
            </a:r>
            <a:r>
              <a:rPr b="1" i="1" lang="en-US" sz="2800" spc="-1" strike="noStrike">
                <a:solidFill>
                  <a:srgbClr val="ffffff"/>
                </a:solidFill>
                <a:latin typeface="Arial"/>
              </a:rPr>
              <a:t>tidak secara mutlak</a:t>
            </a:r>
            <a:r>
              <a:rPr b="0" lang="en-US" sz="2800" spc="-1" strike="noStrike">
                <a:solidFill>
                  <a:srgbClr val="ffffff"/>
                </a:solidFill>
                <a:latin typeface="Arial"/>
              </a:rPr>
              <a:t>; hidup dan perilakunya dibatasi oleh keadaan konkret fisik, psikologis, orang lain, dan lingkungan yang ada.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gan kebebasannya, manusia mampu mengatasi keterbatasan-2nya. Manusia tidak </a:t>
            </a:r>
            <a:r>
              <a:rPr b="0" i="1" lang="en-US" sz="2800" spc="-1" strike="noStrike">
                <a:solidFill>
                  <a:srgbClr val="ffffff"/>
                </a:solidFill>
                <a:latin typeface="Arial"/>
              </a:rPr>
              <a:t>pasif</a:t>
            </a:r>
            <a:r>
              <a:rPr b="0" lang="en-US" sz="2800" spc="-1" strike="noStrike">
                <a:solidFill>
                  <a:srgbClr val="ffffff"/>
                </a:solidFill>
                <a:latin typeface="Arial"/>
              </a:rPr>
              <a:t> dan </a:t>
            </a:r>
            <a:r>
              <a:rPr b="0" i="1" lang="en-US" sz="2800" spc="-1" strike="noStrike">
                <a:solidFill>
                  <a:srgbClr val="ffffff"/>
                </a:solidFill>
                <a:latin typeface="Arial"/>
              </a:rPr>
              <a:t>reaktif, </a:t>
            </a:r>
            <a:r>
              <a:rPr b="0" lang="en-US" sz="2800" spc="-1" strike="noStrike">
                <a:solidFill>
                  <a:srgbClr val="ffffff"/>
                </a:solidFill>
                <a:latin typeface="Arial"/>
              </a:rPr>
              <a:t>akan tetapi</a:t>
            </a:r>
            <a:r>
              <a:rPr b="0" i="1" lang="en-US" sz="2800" spc="-1" strike="noStrike">
                <a:solidFill>
                  <a:srgbClr val="ffffff"/>
                </a:solidFill>
                <a:latin typeface="Arial"/>
              </a:rPr>
              <a:t> proaktif</a:t>
            </a:r>
            <a:r>
              <a:rPr b="0" lang="en-US" sz="2800" spc="-1" strike="noStrike">
                <a:solidFill>
                  <a:srgbClr val="ffffff"/>
                </a:solidFill>
                <a:latin typeface="Arial"/>
              </a:rPr>
              <a:t> menerima hidup dan tantangan yang ada; lalu menetapkan apa sebenarnya inti persoalan atau tantangan yang harus dihadapi: pribadi, bisnis, relasi dengan orang lain, dan sebagainy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bebasan</a:t>
            </a:r>
            <a:endParaRPr b="0" lang="en-US" sz="44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as masalah yang sudah ditetapkan, ia membuat analisa. Hasilnya, adalah penentuan sikap terhadap masalaha tersebut. Dari penentuan sikap, ia memutuskan cara yang paling baik untuk menghadapi masalah tersebut, baik bagi dirinya sendiri, orang lain, maupun lingkungannya. Dengan cara ini, </a:t>
            </a:r>
            <a:r>
              <a:rPr b="0" i="1" lang="en-US" sz="2800" spc="-1" strike="noStrike">
                <a:solidFill>
                  <a:srgbClr val="ffffff"/>
                </a:solidFill>
                <a:latin typeface="Arial"/>
              </a:rPr>
              <a:t>manusia proaktif</a:t>
            </a:r>
            <a:r>
              <a:rPr b="0" lang="en-US" sz="2800" spc="-1" strike="noStrike">
                <a:solidFill>
                  <a:srgbClr val="ffffff"/>
                </a:solidFill>
                <a:latin typeface="Arial"/>
              </a:rPr>
              <a:t> dapat </a:t>
            </a:r>
            <a:r>
              <a:rPr b="0" i="1" lang="en-US" sz="2800" spc="-1" strike="noStrike">
                <a:solidFill>
                  <a:srgbClr val="ffffff"/>
                </a:solidFill>
                <a:latin typeface="Arial"/>
              </a:rPr>
              <a:t>mengelola hidup</a:t>
            </a:r>
            <a:r>
              <a:rPr b="0" lang="en-US" sz="2800" spc="-1" strike="noStrike">
                <a:solidFill>
                  <a:srgbClr val="ffffff"/>
                </a:solidFill>
                <a:latin typeface="Arial"/>
              </a:rPr>
              <a:t> dan </a:t>
            </a:r>
            <a:r>
              <a:rPr b="0" i="1" lang="en-US" sz="2800" spc="-1" strike="noStrike">
                <a:solidFill>
                  <a:srgbClr val="ffffff"/>
                </a:solidFill>
                <a:latin typeface="Arial"/>
              </a:rPr>
              <a:t>masalahnya </a:t>
            </a:r>
            <a:r>
              <a:rPr b="0" lang="en-US" sz="2800" spc="-1" strike="noStrike">
                <a:solidFill>
                  <a:srgbClr val="ffffff"/>
                </a:solidFill>
                <a:latin typeface="Arial"/>
              </a:rPr>
              <a:t>dengan</a:t>
            </a:r>
            <a:r>
              <a:rPr b="0" i="1" lang="en-US" sz="2800" spc="-1" strike="noStrike">
                <a:solidFill>
                  <a:srgbClr val="ffffff"/>
                </a:solidFill>
                <a:latin typeface="Arial"/>
              </a:rPr>
              <a:t> tenang,</a:t>
            </a:r>
            <a:r>
              <a:rPr b="0" lang="en-US" sz="2800" spc="-1" strike="noStrike">
                <a:solidFill>
                  <a:srgbClr val="ffffff"/>
                </a:solidFill>
                <a:latin typeface="Arial"/>
              </a:rPr>
              <a:t> tetapi </a:t>
            </a:r>
            <a:r>
              <a:rPr b="0" i="1" lang="en-US" sz="2800" spc="-1" strike="noStrike">
                <a:solidFill>
                  <a:srgbClr val="ffffff"/>
                </a:solidFill>
                <a:latin typeface="Arial"/>
              </a:rPr>
              <a:t>tetap</a:t>
            </a:r>
            <a:r>
              <a:rPr b="0" lang="en-US" sz="2800" spc="-1" strike="noStrike">
                <a:solidFill>
                  <a:srgbClr val="ffffff"/>
                </a:solidFill>
                <a:latin typeface="Arial"/>
              </a:rPr>
              <a:t> </a:t>
            </a:r>
            <a:r>
              <a:rPr b="0" i="1" lang="en-US" sz="2800" spc="-1" strike="noStrike">
                <a:solidFill>
                  <a:srgbClr val="ffffff"/>
                </a:solidFill>
                <a:latin typeface="Arial"/>
              </a:rPr>
              <a:t>efisien </a:t>
            </a:r>
            <a:r>
              <a:rPr b="0" lang="en-US" sz="2800" spc="-1" strike="noStrike">
                <a:solidFill>
                  <a:srgbClr val="ffffff"/>
                </a:solidFill>
                <a:latin typeface="Arial"/>
              </a:rPr>
              <a:t>dan </a:t>
            </a:r>
            <a:r>
              <a:rPr b="0" i="1" lang="en-US" sz="2800" spc="-1" strike="noStrike">
                <a:solidFill>
                  <a:srgbClr val="ffffff"/>
                </a:solidFill>
                <a:latin typeface="Arial"/>
              </a:rPr>
              <a:t>efektif.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ati Nurani</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a spiritual manusia juga tampak pada </a:t>
            </a:r>
            <a:r>
              <a:rPr b="1" i="1" lang="en-US" sz="3200" spc="-1" strike="noStrike">
                <a:solidFill>
                  <a:srgbClr val="ffffff"/>
                </a:solidFill>
                <a:latin typeface="Arial"/>
              </a:rPr>
              <a:t>hati nurani</a:t>
            </a:r>
            <a:r>
              <a:rPr b="0" lang="en-US" sz="3200" spc="-1" strike="noStrike">
                <a:solidFill>
                  <a:srgbClr val="ffffff"/>
                </a:solidFill>
                <a:latin typeface="Arial"/>
              </a:rPr>
              <a:t> -nya; hati nurani merupakan alat timbang dan ukur manusia untuk menilai baik-buruknya perilakunya. Melalui hati nurani, manusia dapat meninjau perilaku yang sudah diabstraksi dari pelaksanaan konkretnya, dari segi baik-buruknya sebagai perilaku manusia, dari segi manusia, dan dari aspek moralny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ati Nurani</a:t>
            </a:r>
            <a:endParaRPr b="0" lang="en-US" sz="44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Hati nurani</a:t>
            </a:r>
            <a:r>
              <a:rPr b="0" lang="en-US" sz="2800" spc="-1" strike="noStrike">
                <a:solidFill>
                  <a:srgbClr val="ffffff"/>
                </a:solidFill>
                <a:latin typeface="Arial"/>
              </a:rPr>
              <a:t> adalah </a:t>
            </a:r>
            <a:r>
              <a:rPr b="1" i="1" lang="en-US" sz="2800" spc="-1" strike="noStrike">
                <a:solidFill>
                  <a:srgbClr val="ffffff"/>
                </a:solidFill>
                <a:latin typeface="Arial"/>
              </a:rPr>
              <a:t>hati yang diterangi</a:t>
            </a:r>
            <a:r>
              <a:rPr b="0" lang="en-US" sz="2800" spc="-1" strike="noStrike">
                <a:solidFill>
                  <a:srgbClr val="ffffff"/>
                </a:solidFill>
                <a:latin typeface="Arial"/>
              </a:rPr>
              <a:t> (secara moral), juga disebut suara hati; artinya, menyampaikan penilaian baik-buruknya secara moral atas perbuatan manusia, baik yang sudah maupun yang belum dilakukan.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i nurani yang menilai perbuatan yang sudah dilakukan disebut </a:t>
            </a:r>
            <a:r>
              <a:rPr b="1" i="1" lang="en-US" sz="2800" spc="-1" strike="noStrike">
                <a:solidFill>
                  <a:srgbClr val="ffffff"/>
                </a:solidFill>
                <a:latin typeface="Arial"/>
              </a:rPr>
              <a:t>hati nurani</a:t>
            </a:r>
            <a:r>
              <a:rPr b="0" lang="en-US" sz="2800" spc="-1" strike="noStrike">
                <a:solidFill>
                  <a:srgbClr val="ffffff"/>
                </a:solidFill>
                <a:latin typeface="Arial"/>
              </a:rPr>
              <a:t> </a:t>
            </a:r>
            <a:r>
              <a:rPr b="1" i="1" lang="en-US" sz="2800" spc="-1" strike="noStrike">
                <a:solidFill>
                  <a:srgbClr val="ffffff"/>
                </a:solidFill>
                <a:latin typeface="Arial"/>
              </a:rPr>
              <a:t>retrospektif</a:t>
            </a:r>
            <a:r>
              <a:rPr b="0" lang="en-US" sz="2800" spc="-1" strike="noStrike">
                <a:solidFill>
                  <a:srgbClr val="ffffff"/>
                </a:solidFill>
                <a:latin typeface="Arial"/>
              </a:rPr>
              <a:t>, sedang yang menilai perbuatan yang akan dilakukan di masa mendatang disebut </a:t>
            </a:r>
            <a:r>
              <a:rPr b="1" i="1" lang="en-US" sz="2800" spc="-1" strike="noStrike">
                <a:solidFill>
                  <a:srgbClr val="ffffff"/>
                </a:solidFill>
                <a:latin typeface="Arial"/>
              </a:rPr>
              <a:t>hati nurani prospekti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ati Nurani</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gan hati nurani dalam dirinya, manusia mempunyai pedoman yang baik untuk meninjau hidup yang sudah dilalui mamupun menentukan arah ke masa depannya. Oleh karena itu, jika mau, dengan menggunakan hati nurani dan mendengarkannya, manusia dapat membuat hidupnya menjadi semakin baik dari hari ke hari, sampai saat hidup berhenti pada waktu manusia meningg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Sifat Transenden</a:t>
            </a:r>
            <a:endParaRPr b="0" lang="en-US" sz="44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fat spiritual manusia paling tampak pada </a:t>
            </a:r>
            <a:r>
              <a:rPr b="1" i="1" lang="en-US" sz="2800" spc="-1" strike="noStrike">
                <a:solidFill>
                  <a:srgbClr val="ffffff"/>
                </a:solidFill>
                <a:latin typeface="Arial"/>
              </a:rPr>
              <a:t>sifat transenden</a:t>
            </a:r>
            <a:r>
              <a:rPr b="0" lang="en-US" sz="2800" spc="-1" strike="noStrike">
                <a:solidFill>
                  <a:srgbClr val="ffffff"/>
                </a:solidFill>
                <a:latin typeface="Arial"/>
              </a:rPr>
              <a:t> –nya; transenden, berarti mengatasi atau melampaui, hal baru yang belum ada dalam hidup sebelumnya, hal sedemikian baru atau tinggi sehingga ada di luar segala hal yang pernah dijumpai dalam hidup sampai saat ini.</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gan sifat transendennya, manusia menjadi terbuka; terbuka berarti ada ruang di dalam diri manusia, terdapat dorongan, ada kemampuan untuk diisi dan dipenuhi oleh sesua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Sifat Transenden</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kat keterbukaannya, manusia memiliki kemungkinan, dorongan, dan kemampuan untuk mengerti, menerima, dan mencapai hal yang melampaui diri dan duniany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usia mampu ke luar dari dirinya sendiri lalu mengenal dan menangkap realitas di luar diriny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dak hanya mampu mengenal kebaikan, kebenaran, keadilan dst, tapi juga terdorong dari dalam dirinya untuk meraihnya dan mempunyai kemampuan untuk meraihny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Sifat Transenden</a:t>
            </a:r>
            <a:endParaRPr b="0" lang="en-US" sz="4400" spc="-1" strike="noStrike">
              <a:solidFill>
                <a:srgbClr val="e3e3ff"/>
              </a:solidFill>
              <a:latin typeface="Arial"/>
            </a:endParaRPr>
          </a:p>
        </p:txBody>
      </p:sp>
      <p:sp>
        <p:nvSpPr>
          <p:cNvPr id="1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gan keterbukaaan terhadap yang transenden, manusia mampu memahami yang tidak terbatas – Yang Maha Baik, Maha Benar, Maha Adil – dan rindu serta terdorong untuk mencapainya.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 berarti, manusia mampu memahami Realitas tertinggi, Terbaik, terbenar, Teradil – yakni Allah sendiri – dan terdorong dari dalam untuk mencapainy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fat Transenden</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hadap Realitas Tertinggi, manusia merasa tergantung. Realitas Tertinggi itu dipersepsi sebagai asal, penyelenggaraan, dan tujuan hidupnya.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simpulan itu dicapai sesudah manusia merenungkan hidup, diri, beserta seluruh pengalaman yang dialami dalam hidupnya. Jadi, pada manusia ada kebutuhan terhadap Realitas Tertinggi. Kebutuhan untuk mencapai Realitas Tertinggi itu mungkin terpenuhi karena manusia memiliki kemampuan untuk memahami dan menerimany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ukum Fisik</a:t>
            </a: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usia merupakan salah satu makhluk penghuni planit bumi</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dup bersama dengan sesama manusia, di lingkungan keluarga, masyarakat, suku, bangsa, d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perti makhluk lain di bumi, manusia tunduk pada hukum-hukum al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simpulan</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ecara fisik</a:t>
            </a:r>
            <a:r>
              <a:rPr b="0" lang="en-US" sz="3200" spc="-1" strike="noStrike">
                <a:solidFill>
                  <a:srgbClr val="ffffff"/>
                </a:solidFill>
                <a:latin typeface="Arial"/>
              </a:rPr>
              <a:t> (meski dalam beberapa hal kalah), secara keseluruhan </a:t>
            </a:r>
            <a:r>
              <a:rPr b="1" i="1" lang="en-US" sz="3200" spc="-1" strike="noStrike">
                <a:solidFill>
                  <a:srgbClr val="ffffff"/>
                </a:solidFill>
                <a:latin typeface="Arial"/>
              </a:rPr>
              <a:t>manusia jauh lebih unggul dari mahkluk lai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un, keunggulan manusia terutama ditentukan oleh </a:t>
            </a:r>
            <a:r>
              <a:rPr b="1" i="1" lang="en-US" sz="3200" spc="-1" strike="noStrike">
                <a:solidFill>
                  <a:srgbClr val="ffffff"/>
                </a:solidFill>
                <a:latin typeface="Arial"/>
              </a:rPr>
              <a:t>daya spiritualnya; </a:t>
            </a:r>
            <a:r>
              <a:rPr b="0" lang="en-US" sz="3200" spc="-1" strike="noStrike">
                <a:solidFill>
                  <a:srgbClr val="ffffff"/>
                </a:solidFill>
                <a:latin typeface="Arial"/>
              </a:rPr>
              <a:t>membuat manusia mampu </a:t>
            </a:r>
            <a:r>
              <a:rPr b="1" i="1" lang="en-US" sz="3200" spc="-1" strike="noStrike">
                <a:solidFill>
                  <a:srgbClr val="ffffff"/>
                </a:solidFill>
                <a:latin typeface="Arial"/>
              </a:rPr>
              <a:t>mengabstraksi</a:t>
            </a:r>
            <a:r>
              <a:rPr b="0" lang="en-US" sz="3200" spc="-1" strike="noStrike">
                <a:solidFill>
                  <a:srgbClr val="ffffff"/>
                </a:solidFill>
                <a:latin typeface="Arial"/>
              </a:rPr>
              <a:t>, memiliki ke</a:t>
            </a:r>
            <a:r>
              <a:rPr b="1" i="1" lang="en-US" sz="3200" spc="-1" strike="noStrike">
                <a:solidFill>
                  <a:srgbClr val="ffffff"/>
                </a:solidFill>
                <a:latin typeface="Arial"/>
              </a:rPr>
              <a:t>bebas</a:t>
            </a:r>
            <a:r>
              <a:rPr b="0" lang="en-US" sz="3200" spc="-1" strike="noStrike">
                <a:solidFill>
                  <a:srgbClr val="ffffff"/>
                </a:solidFill>
                <a:latin typeface="Arial"/>
              </a:rPr>
              <a:t>an, memiliki </a:t>
            </a:r>
            <a:r>
              <a:rPr b="1" i="1" lang="en-US" sz="3200" spc="-1" strike="noStrike">
                <a:solidFill>
                  <a:srgbClr val="ffffff"/>
                </a:solidFill>
                <a:latin typeface="Arial"/>
              </a:rPr>
              <a:t>hati nurani</a:t>
            </a:r>
            <a:r>
              <a:rPr b="0" lang="en-US" sz="3200" spc="-1" strike="noStrike">
                <a:solidFill>
                  <a:srgbClr val="ffffff"/>
                </a:solidFill>
                <a:latin typeface="Arial"/>
              </a:rPr>
              <a:t>, dan </a:t>
            </a:r>
            <a:r>
              <a:rPr b="1" i="1" lang="en-US" sz="3200" spc="-1" strike="noStrike">
                <a:solidFill>
                  <a:srgbClr val="ffffff"/>
                </a:solidFill>
                <a:latin typeface="Arial"/>
              </a:rPr>
              <a:t>terbuka terhadap Yang Transenden</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simpulan</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Kemampuan abstraksi</a:t>
            </a:r>
            <a:r>
              <a:rPr b="0" lang="en-US" sz="3200" spc="-1" strike="noStrike">
                <a:solidFill>
                  <a:srgbClr val="ffffff"/>
                </a:solidFill>
                <a:latin typeface="Arial"/>
              </a:rPr>
              <a:t>, membuat manusia mampu melepaskan konsep dari objek konkretny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Kesadaran diri</a:t>
            </a:r>
            <a:r>
              <a:rPr b="0" lang="en-US" sz="3200" spc="-1" strike="noStrike">
                <a:solidFill>
                  <a:srgbClr val="ffffff"/>
                </a:solidFill>
                <a:latin typeface="Arial"/>
              </a:rPr>
              <a:t> memungkinkan manusia memisahkan dirinya dari diri konkretnya dan memisahkan perilakunya dari perilaku konkretny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simpulan</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gan </a:t>
            </a:r>
            <a:r>
              <a:rPr b="1" i="1" lang="en-US" sz="2800" spc="-1" strike="noStrike">
                <a:solidFill>
                  <a:srgbClr val="ffffff"/>
                </a:solidFill>
                <a:latin typeface="Arial"/>
              </a:rPr>
              <a:t>kebebasannya</a:t>
            </a:r>
            <a:r>
              <a:rPr b="0" lang="en-US" sz="2800" spc="-1" strike="noStrike">
                <a:solidFill>
                  <a:srgbClr val="ffffff"/>
                </a:solidFill>
                <a:latin typeface="Arial"/>
              </a:rPr>
              <a:t>, manusia mampu menetapkan pilihan terpisah dari penentuan keadaan dan objek konkretny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Hati nuraninya</a:t>
            </a:r>
            <a:r>
              <a:rPr b="0" lang="en-US" sz="2800" spc="-1" strike="noStrike">
                <a:solidFill>
                  <a:srgbClr val="ffffff"/>
                </a:solidFill>
                <a:latin typeface="Arial"/>
              </a:rPr>
              <a:t>, memungkinkan manusia dapat memisahkan perilaku dari perilaku konkretnya dan menilai baik-buruknya perilaku dari segi moral.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Keterbukaan terhadap Yang Transenden</a:t>
            </a:r>
            <a:r>
              <a:rPr b="0" lang="en-US" sz="2800" spc="-1" strike="noStrike">
                <a:solidFill>
                  <a:srgbClr val="ffffff"/>
                </a:solidFill>
                <a:latin typeface="Arial"/>
              </a:rPr>
              <a:t> memungkinkan manusia mengatasi segala hal yang kasat mata dan terbata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Kesimpulan</a:t>
            </a:r>
            <a:endParaRPr b="0" lang="en-US" sz="44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usia perlu mengembangkan </a:t>
            </a:r>
            <a:r>
              <a:rPr b="1" i="1" lang="en-US" sz="2800" spc="-1" strike="noStrike">
                <a:solidFill>
                  <a:srgbClr val="ffffff"/>
                </a:solidFill>
                <a:latin typeface="Arial"/>
              </a:rPr>
              <a:t>kecakapan alamiah</a:t>
            </a:r>
            <a:r>
              <a:rPr b="0" lang="en-US" sz="2800" spc="-1" strike="noStrike">
                <a:solidFill>
                  <a:srgbClr val="ffffff"/>
                </a:solidFill>
                <a:latin typeface="Arial"/>
              </a:rPr>
              <a:t> (pengetahuan, seni, keutamaan) </a:t>
            </a:r>
            <a:r>
              <a:rPr b="1" i="1" lang="en-US" sz="2800" spc="-1" strike="noStrike">
                <a:solidFill>
                  <a:srgbClr val="ffffff"/>
                </a:solidFill>
                <a:latin typeface="Arial"/>
              </a:rPr>
              <a:t>dalam akal budinya</a:t>
            </a:r>
            <a:r>
              <a:rPr b="0" lang="en-US" sz="2800" spc="-1" strike="noStrike">
                <a:solidFill>
                  <a:srgbClr val="ffffff"/>
                </a:solidFill>
                <a:latin typeface="Arial"/>
              </a:rPr>
              <a:t> dan </a:t>
            </a:r>
            <a:r>
              <a:rPr b="1" i="1" lang="en-US" sz="2800" spc="-1" strike="noStrike">
                <a:solidFill>
                  <a:srgbClr val="ffffff"/>
                </a:solidFill>
                <a:latin typeface="Arial"/>
              </a:rPr>
              <a:t>kecakapan yang mengatasi alamiah dalam daya rohaninya </a:t>
            </a:r>
            <a:r>
              <a:rPr b="0" lang="en-US" sz="2800" spc="-1" strike="noStrike">
                <a:solidFill>
                  <a:srgbClr val="ffffff"/>
                </a:solidFill>
                <a:latin typeface="Arial"/>
              </a:rPr>
              <a:t>(Yaitu kemampuan dan kemauan untuk mencapai Yang Transenden, Allah sendir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capai Yang Tranesenden, Allah, merupakan prestasi manusia yang paling tinggi sebagai mahkluk rohan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PENUTUP</a:t>
            </a: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usia adalah mahkluk yang haus akan makna (Plat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irah untuk kasih, belas kasihan, dan kebaikan adalah gairah untuk Allah (Robert E. Thoms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ukum Fisik</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ara fisik, tubuh manusia memar dan hancur jika dipukul dengan benda-benda keras; robek bila ditarik atau dipotong; tembus bila ditusuk atau ditembak; melepuh dan terbakar bila kena panas tinggi; lemas dan kehabisan daya jika diracuni melalui air udara, atau makana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Hukum Fisiologis</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ara fisiologis, tubuh manusia dapat terganggu, sakit, dan mati jika mesin tubuh diganggu, dirusak, dan dimatika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uh manusia tidak dapat berfungsi normal bila dikurangi atau ditiadakan kemampuan gerakny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dak berfungsi baik atau macet total bila saluran nafas dipersempit atau disumb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Keunggulan Secara Fisik  dan Fisiologis</a:t>
            </a:r>
            <a:endParaRPr b="0" lang="en-US" sz="4000" spc="-1" strike="noStrike">
              <a:solidFill>
                <a:srgbClr val="e3e3ff"/>
              </a:solidFill>
              <a:latin typeface="Arial"/>
            </a:endParaRPr>
          </a:p>
        </p:txBody>
      </p:sp>
      <p:sp>
        <p:nvSpPr>
          <p:cNvPr id="135" name="PlaceHolder 2"/>
          <p:cNvSpPr>
            <a:spLocks noGrp="1"/>
          </p:cNvSpPr>
          <p:nvPr>
            <p:ph/>
          </p:nvPr>
        </p:nvSpPr>
        <p:spPr>
          <a:xfrm>
            <a:off x="468360" y="2060640"/>
            <a:ext cx="8229600" cy="4495680"/>
          </a:xfrm>
          <a:prstGeom prst="rect">
            <a:avLst/>
          </a:prstGeom>
          <a:noFill/>
          <a:ln w="0">
            <a:noFill/>
          </a:ln>
        </p:spPr>
        <p:txBody>
          <a:bodyPr anchor="t">
            <a:normAutofit/>
          </a:bodyPr>
          <a:p>
            <a:pPr marL="343080" indent="-343080" algn="ctr">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erjalan Tegak</a:t>
            </a:r>
            <a:endParaRPr b="0" lang="en-US" sz="3600" spc="-1" strike="noStrike">
              <a:solidFill>
                <a:srgbClr val="ffffff"/>
              </a:solidFill>
              <a:latin typeface="Arial"/>
            </a:endParaRPr>
          </a:p>
          <a:p>
            <a:pPr marL="343080" indent="-343080" algn="ctr">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dak Ditentukan oleh Kodrat</a:t>
            </a:r>
            <a:endParaRPr b="0" lang="en-US" sz="3600" spc="-1" strike="noStrike">
              <a:solidFill>
                <a:srgbClr val="ffffff"/>
              </a:solidFill>
              <a:latin typeface="Arial"/>
            </a:endParaRPr>
          </a:p>
          <a:p>
            <a:pPr marL="343080" indent="-343080" algn="ctr">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dak Diatur oleh Insting</a:t>
            </a:r>
            <a:endParaRPr b="0" lang="en-US" sz="3600" spc="-1" strike="noStrike">
              <a:solidFill>
                <a:srgbClr val="ffffff"/>
              </a:solidFill>
              <a:latin typeface="Arial"/>
            </a:endParaRPr>
          </a:p>
          <a:p>
            <a:pPr marL="343080" indent="-343080" algn="ctr">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mampuan Mengembangkan Daya Fisi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erjalan Tegak</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usia berjalan tegak di atas dua kakinya. Dapat bergerak leluasa: maju mundur, kiri kanan, terus atau berhenti.</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ala yang disangga oleh leher, memudahkan gerak ke segala arah dan luas pandangan matanya.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mpil lebih gagah, higienis, jauh dari berbagai kotoran yang berserakan di tana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dak Ditentukan oleh Kodrat</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odrat manusia adalah keseluruhan unsur (lahir dan batin, badan dan jiwa, material dan spiritual) yang membuat manusia menjadi manusia dan tampil sebagai manusia.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rbeda dengan makhluk-2 lain, manusia tidak hidup berdasarkan dan ditentukan oleh kodrat. Bagi manusia tidak ada “blue pri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01:51:46Z</dcterms:created>
  <dc:creator>pds</dc:creator>
  <dc:description/>
  <dc:language>en-US</dc:language>
  <cp:lastModifiedBy>Microsoft Windows</cp:lastModifiedBy>
  <dcterms:modified xsi:type="dcterms:W3CDTF">2004-12-07T20:13:16Z</dcterms:modified>
  <cp:revision>42</cp:revision>
  <dc:subject/>
  <dc:title>MANUSIA MAHKLUK TRANSENDEN</dc:title>
</cp:coreProperties>
</file>